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7C19-C901-407F-87C6-1F943B98D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ED9E-F6B9-4325-9900-F01B18A2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0FFB06-0C5B-4893-9198-1032A2E6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EBAE58-384D-4A97-8677-3A4D0ED40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AAA81F-67E8-4FC9-A9EC-DB17B971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39359F-9271-4EA0-87FE-6BB739A9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D45907-B43D-4811-9B8F-5E5992EE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22BE6D-DB53-486B-B7FF-BBA48EC5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4EFC7C-D514-44AC-80EA-A86D7476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3A0C8A-4BDC-4E5F-A440-98646CBD7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5E3677-FB76-4D6C-9A75-32E60011D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B3BEDF-074A-4F3B-B4DD-3A47B9FB5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F538-CD28-4860-B860-C8FEBA2E4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DCEFF2-BB9A-44B9-9A95-3AB62830C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E18E11-A6D3-4EA2-9836-3EDB774D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6299D7-0F3F-4715-8C47-C6EDC005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C275DF-F53B-444C-A950-46878B62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83BCA0-24B9-4439-A48F-2AD3B76E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BB277D-65F5-447E-B71D-142B32D1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E287DD-BECB-4D13-8DC8-4DC7BFE7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8FF1E9-8A3D-4707-8C72-6F70A9BA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933DF1-A582-47BD-A8E6-AD3E8514B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070307-CFB5-4B9A-B81B-ED8349EA3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DCDD-3139-45A7-84CC-B50577C9D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78071E-4C61-483E-947C-6A947D74A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0B9274-77F4-4BC5-8DF2-7982D9E8E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D0FFF-9E1D-427F-9DD2-ECB9BC88A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2D41A1-F066-4014-9E9B-F438597F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5CE595-7F22-4D88-8F89-63318BA0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35E20-5D87-4302-BC59-93F223B3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E719CA-FAB3-4666-92AB-4F5E166A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9D099-973D-494B-B752-F0DFB98D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DCE9D-C2C0-4D27-90F4-56F9FFA8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6CD74D-F2CD-49BE-8834-FEB33C15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AB96-5955-4177-98F6-1DDC3A5D3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B62201-41A5-4CDA-B10B-51B124AD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DD477B-FD4B-4044-95D9-84E8C7CDF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72ABBE-A0FA-4EFC-A027-144A99804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3A5516-D7E0-45F1-932E-AD695ED42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4E0308-BD4C-4DA8-A11E-DE80F8CA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233083-41BA-441C-8759-7E117066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90D007-313B-47D7-95CB-90103A93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60846F-5021-4303-9A70-319B5D80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9D5B3A-5843-4DF8-9C30-585C3AE3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B80A5D-E78D-4560-9577-4BDD076B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F7731-C568-4616-9AB7-3992FF606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8C58EC-117E-48EE-80D3-4D4EB5B6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C7E822-69C3-4D60-B5E7-C30F4F4D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72DDC9-D149-4AD3-94A6-1F00E7E5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6AF23F-A82A-4D9C-8541-CB69DCD5D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C07BF6-35FE-469E-82EB-5E32FC9A0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98A89-7EDD-48B3-89FA-BF26754B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87169-0EA9-48AC-A29F-6A69E11D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4B2C7-DDC9-4141-A283-97A2EBED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E5C9B-9F38-47C1-9BA6-9CAC01B9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B618-CD13-4188-A84E-0BC10143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1A9E-8554-400B-9D6E-A827DC8B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817EB-44B4-4E11-A92E-BD749DAA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FF14-3844-4A69-B807-83FB16B9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82AA8-DB54-4CB9-A439-2617E512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6AB36-52A6-4F73-9E5E-3791A3CD6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8FAB4-7AC5-4EA5-8E77-E158EFEE3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C1696-B2BA-4AB8-9752-2CAB2D211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60FA1-22D5-48BA-8C02-8A63FCB5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E84FE-0FCA-4F32-9938-944F5091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D9D9B-9F36-4F8A-8923-CF486A28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E1FFB-14C9-4209-AC55-B5E96158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5243-18B9-456C-9DD1-711BE77D1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6AA37-11FE-4075-8873-30E61123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437F4-5A63-4DB1-ABBE-18CF8F70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AED34-AC0E-4A6E-9B68-8222FD82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46C22-9C37-45E5-8155-AEA322F6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37233-BFB5-46D5-9042-34F5B1C2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E4D66-1C62-45FC-A24B-53D8E6D70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04C32-7B5B-48C8-B976-A3280A4D0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9C005-8EA6-4F8E-A612-13501258C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87F08-67C3-4B4F-9643-FDA34623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FC116-60BD-4211-920D-4CD3716F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0D7A-1AEE-4DB4-BFA4-B1236C14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C1F6E-0E09-4226-B175-869923B1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0EF59-7E03-4F52-8AC2-BBDF6EAF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E1634-29C3-4DBB-9129-E12F6F1F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4BF24-7F3E-433A-A1EA-C511E6FC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38313-B031-46BA-B9B7-B2F84873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59DE9-457D-415F-B323-98EAB839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47CE2-DAD1-41E5-BE53-43B8BC46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315BE-F6F9-4173-BBC2-01A46C4CB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93C52-464A-4EBC-A472-E3A0CC212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AED07-41A2-4AD4-BCFA-30D13B822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34BE-E5F8-4F71-B5CA-EE435E9FB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A26B8-CAA2-446F-A473-27BBD063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5B91A-CDFE-4889-8C87-058F322D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C2576-D0BE-4946-BCF6-535FD403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AB878-F3B6-411C-BC48-96542918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A3F82-31B9-4A41-BDA9-945E9E634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2FDAE-0094-4336-9946-EFEB5B21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F4E2B-6FF6-4A0E-AABC-25F005B8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B21A7-FBCB-4146-960E-74D9F889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BA4F9-A750-4C4A-8AEB-0061C9E4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F85DA-E322-452D-AE55-1AB90740F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851D-CE81-4D2A-9DA2-4E1E1870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76BB2-2062-404B-8AE6-62851FC9F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29EF1-D195-4DFA-9212-79ECB9C7C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4F6CF-ED7D-4D40-A43B-9260AF96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80833-62F9-49B6-8F88-467CF60D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417A1-3B93-48D3-9867-CBFF95A8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D908E-1932-42D3-87B0-C7CA4109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05FF9-D53A-4D2E-8CDF-6460D113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C6A20-07FE-4DBA-AE84-24A99F8B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70CEE-DFD5-4802-A9CA-043F44B4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2F674-B1F0-4038-B80A-563401D9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AD4F-6516-42D6-B554-0343E18A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FA5D6-3859-47F9-A2FB-69EA69A1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5467D-93C2-4A16-8B09-E024991FF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79802-12B5-4861-8A76-DFA8D92AA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EE02D-8A52-48C2-93CB-89E8B2020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22233-F411-4CE6-B924-BEE4477F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6B70A-F09D-4504-9A6C-05D4E096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3E49D-D9DC-47D9-B754-5679DF13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40F3B-9731-4C21-A5DF-C9D15241C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83E0C-6DC0-4D5F-AF9B-C56DB657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1E42B-5D45-41F2-B687-DC65E9BD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FF36-D821-4F27-A5C0-5235C5BB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74ADE-C4A4-4C20-A879-AEEA0B68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8B8A9-FDC5-4B2B-BD42-7295D597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8FCC0-12F4-41DC-BD28-9DA4F64F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18315-5C4E-4A2C-8B71-B2A20813D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4BACD-B5BC-4E97-A7B4-0D6E6B8B9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E1F445-CBD7-4C6A-8D83-E3AB8273A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129F7-CC42-44EA-84C6-B9D18893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57E50-D2A5-495D-BBE1-FD8BA5C4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96525-6D74-4471-A896-12266FF2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A7D42-B2C7-416A-85C2-93FB9FCA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F031-2BF1-4859-9550-75C341B1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931DB-4F37-46AB-B7A0-ECB4E5FA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3F6CB-B14F-4551-98F7-431D2063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4CA3C-7922-4756-944A-636FC5C2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597A4-F5CE-4AFB-A3D5-35AA8EB1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CD677-248B-49DC-9B38-E6638F1C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4AB2B-C60F-4E6D-8AB1-DAEF12619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3D3C4-5B42-4FF9-BF38-5FED3D9CE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3AA1D-6174-47DB-948F-CA95CF2A9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63A371-81C3-4E70-B8B8-6E796680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BBB106-9EEA-49A4-B6F1-C40197D4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9E75-D33B-4D9F-8B09-6D71EFCBF75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81F4-722C-48B4-9D7B-AECC95EBEF6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E8EB-CDE3-4E2F-8093-D7FC8542739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5975-DAE5-4990-BB62-7EDB61AF5FF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B839-C3AD-44B8-A9B0-5C986D0B8D7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D1B8-3929-4860-B086-675F1D1E764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2025-3BB6-4933-8465-5B6CDDED201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964B-339D-47AD-90B5-BE22C9B5286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99A0-5E37-4B4B-9318-27E95CD6BD3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407F-0FC2-4070-99CE-F39289E8568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6DAE-DB9E-4CD6-870F-C633389674E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7B9F-6FB4-4736-AAA6-F8E723F1884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98 Pane, ráč nás Duch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ojí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ane, ráč nás Duchom svojí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hojnej miere obdari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sme stále pripraven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voju pravdu obháj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kúšky znášať trpezlivo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asiteľ náš, pomôž sám,</a:t>
            </a:r>
            <a:br>
              <a:rPr sz="4800"/>
            </a:b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zhovievaví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nech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sme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blížnym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47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žní, ako ty si k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brotivosť sprevádzať m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aždé naše správan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vládnuť nás nauč váš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kušeniam vravieť: Ni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lody Ducha tvojho, Pa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inášať nám pomáh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ždy ti chceme verne slúži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o viere nás zachovaj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1-30T18:04:42Z</dcterms:modified>
  <cp:revision>20</cp:revision>
  <dc:subject/>
  <dc:title>Je veľký náš Pán, on slávy je Kráľ Nech do všetkých strán  spev vrúcnych znie chvál.</dc:title>
</cp:coreProperties>
</file>